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C51-7BC9-46FF-A53F-0CD7CB32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203-2F53-49EA-B07B-BB799B0E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B23-631F-464F-855A-9C2DE971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FD8-EBE8-42E3-9B94-76E733C7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CB2D-C8FC-4EFB-929B-D53278D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E47-85BD-4E4B-9C62-79064EEA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695-1224-46DB-8313-FA55B72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0591-142F-44CC-8039-D112E39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786E-17AC-4623-8BBF-A0FB491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3CED-2BD1-4952-A17E-4F4941B0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9D6-7DE6-4D1D-B85D-8FAD1334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B87-D79B-475C-9250-2FEE118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7220-5E4B-45B1-B4F4-A4F912C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9785-0602-48CB-B088-445D586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8E0-E10F-4179-A204-B7EB4B1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0F9C-4AEE-44B8-B057-EF1B3347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1765-736C-49FF-9A1B-1425CCAF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A170-05D6-4652-942A-E32EBD88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BF82-AC59-404E-9976-E471E66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0160-9EB1-4442-9129-0253AC0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7ADE-BD32-46C1-AE18-C81512B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4E82-85B2-4EEF-A11A-B945F7C2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23E-8008-4BAC-8E8E-872DD69D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6CBA-E3AA-4EA0-BBEF-3069551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27EC-90E3-4E11-9938-889D647A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0733-8778-4C1F-87D2-7236289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DC7C-0C23-4C69-86C9-123ABC0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9BF5-F30A-453E-8162-5FE771DC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A779-5275-441E-B7F7-17FA8E7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C4FF-049C-4965-B3E6-84F967BB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5D8C-3C97-4B93-938C-031667F4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E9B2-DB56-47B1-B17F-20D5FAA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CBF0-1D52-4C60-90EC-C5AAB1E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A93-53FC-4544-835E-32FC73CA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8096-1B81-4496-A323-C89EFFF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0D04-9A63-47CC-8A81-0155E612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0C34-1517-40C8-96D9-EE271C73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8986-113A-4E9F-8585-1A99967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89FF-4A63-4E5C-9C06-7040D7D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C100-BE8B-418F-9353-64956AF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7B7E-7060-4DFD-A9A9-493D643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59E1-0DD7-4936-BB86-649F7514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9145-2AA5-4D09-8A32-62BAA547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6A584-D699-443B-A69C-0EE78962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F4D-0370-4DEB-947A-C86132B7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EEC7-2046-4C5A-A925-CD04B407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1E745-21AC-427A-9DBD-966F056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B0C1-AADD-4D3E-B92A-AD02EE2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9AE1-9EAD-4B65-BAF4-4DF2D765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5946-5964-440A-B59B-9E31DAFC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7745-A870-4178-B2C9-8AC2D93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7AD0-F117-4D42-9BE8-AC915523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2CCD-BCC3-40B0-B008-FE9DE6F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006C-B93B-4362-B572-E973113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1917F-5568-4A3C-AA91-682D62E9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A0C-8F97-4155-9796-F20C6D8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4C90-2DDB-48C5-BC37-55719AFA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83A72-2D37-4E1F-9192-A55D88E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1085-EDBA-4B68-9786-19726A5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8B38-8D6E-40BE-A5E6-32610F0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E7B3-CA32-47F7-B503-E5BFB899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7578-95B8-4CDD-8BF4-A087FDA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16B55-6943-4A0B-805E-FE338FF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008A-9AC6-4BC5-B5F3-AB88F13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5187-763D-49D1-A4A7-6894EB4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B816-95BB-46B3-9F8D-EA63129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701-48FE-41EA-8D71-8A2DB728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03DA-2307-40BF-A1DE-90F0868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79AD-00BB-4AFD-B849-FF9FC2A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D9FD-323C-4F0E-8EB1-38B34EAA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C70E4-7993-47B3-AD57-6E34314E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3881-3EC1-4152-9BFC-474BA01A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59DE-E73E-44FE-941B-D2D2675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B11D-0758-4002-B8F0-0C3EDB58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47DA-4C0A-418F-9404-FBE0937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6B3A-465D-4DAC-AE39-7622B0F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EBDC-DF16-4A27-8601-199C149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060-7B90-4473-B52A-3600855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D9B8-B78F-4C74-90F8-B5CA310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1505C-1B5C-4C60-ABC7-D1C8036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5D575-5F31-4DFF-8DAC-323355E5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1D27B-D1EC-4C0C-9A77-D9A1F242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FE8F-3333-460D-B944-0D7D9182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35E-9C03-4962-9F9B-81B90DD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7257-13B5-4DFC-A4D0-843E4CE781A2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130A-FA96-49F1-B2C6-D1D9DE0A9A7A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464C-A840-441E-8E29-259456D91188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9B8-D367-4440-8A4A-F851511E7630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FF46-91AB-4CD9-A284-180535CBB86E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33E7-B9AC-41BB-8B95-55B7D20568F8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0051-5C06-47E0-AB2E-7AE23F9D5407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k-12.pisd.edu/guide/elemen/index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Use for Stud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makes school work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s there are rules in your classroom, in the Science lab, at home, and for crossing the street safely, there are rules f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C:\Documents and Settings\121hintza.RRISD\Local Settings\Temporary Internet Files\Content.IE5\ONW2JTGI\MPj04393590000[1].jpg"/>
          <p:cNvPicPr/>
          <p:nvPr/>
        </p:nvPicPr>
        <p:blipFill>
          <a:blip r:embed="rId1"/>
          <a:stretch/>
        </p:blipFill>
        <p:spPr>
          <a:xfrm>
            <a:off x="6095880" y="38098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90720" y="304920"/>
            <a:ext cx="70866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838080" y="457200"/>
            <a:ext cx="76964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inter2a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4952880" y="274320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80880" y="15238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ess Ctrl-Alt-Delete, then logon, each time you use a school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rcRect l="0" t="4218" r="0" b="0"/>
          <a:stretch/>
        </p:blipFill>
        <p:spPr>
          <a:xfrm>
            <a:off x="2895480" y="2362320"/>
            <a:ext cx="3429000" cy="1733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2"/>
          <p:cNvSpPr/>
          <p:nvPr/>
        </p:nvSpPr>
        <p:spPr>
          <a:xfrm>
            <a:off x="380880" y="411588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666880" y="4724280"/>
            <a:ext cx="4038840" cy="1981440"/>
            <a:chOff x="2666880" y="4724280"/>
            <a:chExt cx="4038840" cy="1981440"/>
          </a:xfrm>
        </p:grpSpPr>
        <p:grpSp>
          <p:nvGrpSpPr>
            <p:cNvPr id="346" name="Group 3"/>
            <p:cNvGrpSpPr/>
            <p:nvPr/>
          </p:nvGrpSpPr>
          <p:grpSpPr>
            <a:xfrm>
              <a:off x="2666880" y="4724280"/>
              <a:ext cx="4038840" cy="1981440"/>
              <a:chOff x="2666880" y="4724280"/>
              <a:chExt cx="4038840" cy="1981440"/>
            </a:xfrm>
          </p:grpSpPr>
          <p:pic>
            <p:nvPicPr>
              <p:cNvPr id="347" name="Picture 4" descr="b 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4724280"/>
                <a:ext cx="403884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"/>
              <p:cNvSpPr/>
              <p:nvPr/>
            </p:nvSpPr>
            <p:spPr>
              <a:xfrm>
                <a:off x="3414600" y="6000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6"/>
              <p:cNvSpPr/>
              <p:nvPr/>
            </p:nvSpPr>
            <p:spPr>
              <a:xfrm>
                <a:off x="3414600" y="5793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3414600" y="5586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8"/>
            <p:cNvSpPr/>
            <p:nvPr/>
          </p:nvSpPr>
          <p:spPr>
            <a:xfrm>
              <a:off x="3464640" y="6035040"/>
              <a:ext cx="244296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RRI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urit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397880" y="16002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login as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121hintza.RRISD\Local Settings\Temporary Internet Files\Content.IE5\ONW2JTGI\MPj04393500000[1].jpg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aving Problem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9480" y="1523880"/>
            <a:ext cx="7848720" cy="204876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can’t log on or you are having other issues: 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your teacher what the problem is.  Computers don’t respond to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121hintza.RRISD\Local Settings\Temporary Internet Files\Content.IE5\FEGHQT2A\MPj04331800000[1].jpg"/>
          <p:cNvPicPr/>
          <p:nvPr/>
        </p:nvPicPr>
        <p:blipFill>
          <a:blip r:embed="rId1"/>
          <a:stretch/>
        </p:blipFill>
        <p:spPr>
          <a:xfrm>
            <a:off x="2514600" y="38862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you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838080" y="1447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0" t="9562" r="3733" b="0"/>
          <a:stretch/>
        </p:blipFill>
        <p:spPr>
          <a:xfrm>
            <a:off x="1523880" y="3352680"/>
            <a:ext cx="2210040" cy="216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73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on a Laptop:  Shutdow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838080" y="1828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64" name="Rectangle 2"/>
          <p:cNvSpPr/>
          <p:nvPr/>
        </p:nvSpPr>
        <p:spPr>
          <a:xfrm>
            <a:off x="3581280" y="198108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838080" y="228600"/>
            <a:ext cx="79250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1974960" y="2408400"/>
            <a:ext cx="4816440" cy="4437000"/>
          </a:xfrm>
          <a:prstGeom prst="rect">
            <a:avLst/>
          </a:prstGeom>
          <a:ln w="0">
            <a:noFill/>
          </a:ln>
        </p:spPr>
      </p:pic>
      <p:sp>
        <p:nvSpPr>
          <p:cNvPr id="367" name="Oval 5"/>
          <p:cNvSpPr/>
          <p:nvPr/>
        </p:nvSpPr>
        <p:spPr>
          <a:xfrm>
            <a:off x="3429000" y="4648320"/>
            <a:ext cx="1295280" cy="1143000"/>
          </a:xfrm>
          <a:prstGeom prst="ellipse">
            <a:avLst/>
          </a:prstGeom>
          <a:noFill/>
          <a:ln w="73080">
            <a:solidFill>
              <a:srgbClr val="fb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respon4a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Mea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potpiegirl.com/wp-content/uploads/2008/02/thumbs-up.jpg"/>
          <p:cNvPicPr/>
          <p:nvPr/>
        </p:nvPicPr>
        <p:blipFill>
          <a:blip r:embed="rId1"/>
          <a:stretch/>
        </p:blipFill>
        <p:spPr>
          <a:xfrm>
            <a:off x="1066680" y="1752480"/>
            <a:ext cx="1378080" cy="16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121hintza.RRISD\Local Settings\Temporary Internet Files\Content.IE5\FEGHQT2A\MPj03905750000[1].jpg"/>
          <p:cNvPicPr/>
          <p:nvPr/>
        </p:nvPicPr>
        <p:blipFill>
          <a:blip r:embed="rId2"/>
          <a:stretch/>
        </p:blipFill>
        <p:spPr>
          <a:xfrm>
            <a:off x="6477120" y="2057400"/>
            <a:ext cx="2081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sing Technology is a Privilege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429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19320" y="1523880"/>
            <a:ext cx="6400800" cy="7642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n be los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121hintza.RRISD\Local Settings\Temporary Internet Files\Content.IE5\F3CYUJ9H\MPj04308400000[1].jpg"/>
          <p:cNvPicPr/>
          <p:nvPr/>
        </p:nvPicPr>
        <p:blipFill>
          <a:blip r:embed="rId1"/>
          <a:stretch/>
        </p:blipFill>
        <p:spPr>
          <a:xfrm>
            <a:off x="4800600" y="2971800"/>
            <a:ext cx="3651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redi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7200" y="220968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is presentation are courtesy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ISD. Used with permi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b7e0e"/>
                </a:solidFill>
                <a:uFillTx/>
                <a:latin typeface="Arial"/>
                <a:hlinkClick r:id="rId1"/>
              </a:rPr>
              <a:t>http://k-12.pisd.edu/guide/eleme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quipmen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38080" y="1828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121hintza.RRISD\Local Settings\Temporary Internet Files\Content.IE5\32GZV3NT\MPj04031590000[1].jpg"/>
          <p:cNvPicPr/>
          <p:nvPr/>
        </p:nvPicPr>
        <p:blipFill>
          <a:blip r:embed="rId1"/>
          <a:stretch/>
        </p:blipFill>
        <p:spPr>
          <a:xfrm>
            <a:off x="5791320" y="4038480"/>
            <a:ext cx="3130560" cy="209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Documents and Settings\121hintza.RRISD\Local Settings\Temporary Internet Files\Content.IE5\FEGHQT2A\MPj04330530000[1].jpg"/>
          <p:cNvPicPr/>
          <p:nvPr/>
        </p:nvPicPr>
        <p:blipFill>
          <a:blip r:embed="rId2"/>
          <a:stretch/>
        </p:blipFill>
        <p:spPr>
          <a:xfrm>
            <a:off x="762120" y="3809880"/>
            <a:ext cx="2622600" cy="2500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121hintza.RRISD\Local Settings\Temporary Internet Files\Content.IE5\F3CYUJ9H\MPj03164350000[1].jpg"/>
          <p:cNvPicPr/>
          <p:nvPr/>
        </p:nvPicPr>
        <p:blipFill>
          <a:blip r:embed="rId3"/>
          <a:stretch/>
        </p:blipFill>
        <p:spPr>
          <a:xfrm>
            <a:off x="3352680" y="4343400"/>
            <a:ext cx="21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14400" y="152388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Documents and Settings\121hintza.RRISD\Local Settings\Temporary Internet Files\Content.IE5\FEGHQT2A\MPj04394160000[1].jpg"/>
          <p:cNvPicPr/>
          <p:nvPr/>
        </p:nvPicPr>
        <p:blipFill>
          <a:blip r:embed="rId1"/>
          <a:stretch/>
        </p:blipFill>
        <p:spPr>
          <a:xfrm>
            <a:off x="2666880" y="25909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Documents and Settings\121hintza.RRISD\Local Settings\Temporary Internet Files\Content.IE5\FEGHQT2A\MPj04393440000[1].jpg"/>
          <p:cNvPicPr/>
          <p:nvPr/>
        </p:nvPicPr>
        <p:blipFill>
          <a:blip r:embed="rId1"/>
          <a:stretch/>
        </p:blipFill>
        <p:spPr>
          <a:xfrm>
            <a:off x="6784920" y="3962520"/>
            <a:ext cx="2359080" cy="273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 Internet U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interne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11598"/>
          <a:stretch/>
        </p:blipFill>
        <p:spPr>
          <a:xfrm>
            <a:off x="4648320" y="4230720"/>
            <a:ext cx="4038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computer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2743200" y="2895480"/>
            <a:ext cx="365436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ade 3, 4 and 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inter3aa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371600" y="4495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e109178</cp:lastModifiedBy>
  <dcterms:modified xsi:type="dcterms:W3CDTF">2012-11-26T15:01:01Z</dcterms:modified>
  <cp:revision>43</cp:revision>
  <dc:subject/>
  <dc:title>Student Internet Use</dc:title>
</cp:coreProperties>
</file>